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9D81-2E5D-41BF-95C0-985ECDB4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2E2-0BEA-4136-86F5-91EB5068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FBB4-82D0-43FD-AF7C-60F61892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B039-C1D0-45EF-AC7D-B78A8D2E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3D20-9E35-4C82-B402-710D9457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0905-4369-48B9-BFD9-961220C0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922A-BA1F-47F6-9B8F-630535D6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851C-6E58-4A59-8996-83AF3B07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564-E372-4028-BB83-55B0336B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52A6-7754-4F6D-9A58-85265932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6A73-2A7A-400F-88D2-CCD7CFBB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E565-8EE3-4068-B31F-32CB9C2E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DA25-C6E2-4EEC-B765-287B3E418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79640" y="1773360"/>
            <a:ext cx="5113440" cy="21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FETTE</a:t>
            </a:r>
            <a:endParaRPr b="1" lang="en-US" sz="5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87640" y="5084640"/>
            <a:ext cx="4937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urier New"/>
              </a:rPr>
              <a:t>von Julika &amp; Jenna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Was ist Fett &amp; wie ist es aufgeba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organische Verbin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ölige, schmierige, wachsartige Substa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Triglyce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8 bis 24 Kohlenstoffat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Reiner Zust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- kein Geschm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- keine Far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- kein Geruch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Fettsä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uppe organischer Sto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stehen bei der Hydrolyse von Fe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. B. Methan- u. Ameisensä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rden als Rohstoffe eingesetz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earinsä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sättigte und Ungesättigte Fettsä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igenschaf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Schmelzpun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Löslich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Rauchpun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Chemische Kennzah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Verseifungsza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Iodza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Säureza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Fette in der Ernäh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chtbare F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steckte F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tt als Geschmacksträ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3:52:12Z</dcterms:created>
  <dc:creator>template</dc:creator>
  <dc:description/>
  <dc:language>en-US</dc:language>
  <cp:lastModifiedBy>BBS Winsen</cp:lastModifiedBy>
  <dcterms:modified xsi:type="dcterms:W3CDTF">2006-09-28T08:32:05Z</dcterms:modified>
  <cp:revision>3</cp:revision>
  <dc:subject/>
  <dc:title>Folie 1</dc:title>
</cp:coreProperties>
</file>